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474F-310B-47EA-981A-C88E126A8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5EFD-0323-438F-A80F-A80F2B81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6327-5A0B-426E-9BA0-2390AE388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81F9-8130-41F3-9B91-18267AE0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EA0C-0C77-4B49-A48A-EA24F608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44FE-2F4B-4D84-9E07-27EE6371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D085-3F99-446C-973E-BD9EA05E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9D3A-B393-40C0-9A84-FDEA067F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F14D-F64F-4F1E-9DFD-4C5D9563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2123-45A5-4445-97C5-57EFCFD6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AEEA-6CBE-4E02-A3BE-375B71C6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12E6-665D-48F5-91D6-0522EEB4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BCC3-B763-435E-B1A8-472C810A9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 2.2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e Distributive Prope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0968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: Numerical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3200400"/>
            <a:ext cx="71625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1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e mental m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15(1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(15) – 8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81080" y="9144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1735200"/>
            <a:ext cx="685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(B + C) = A*B + A*C                           A(B - C) = A*B - A*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 + C)A = A*B + A*C                          (B – C)A = A*B – A*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6960" y="228600"/>
            <a:ext cx="44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2: Using the distributive 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533520"/>
            <a:ext cx="556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Multiply: 4(3x –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6560" y="3200400"/>
            <a:ext cx="794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 each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9(2 – 8y)                                                                             B.   (5m + 6)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4638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2120" y="1828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14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5909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2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25909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-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24680" y="25909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3657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8x -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657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x +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3657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6x 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8769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14 – 6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48769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18m +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72400" y="48769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-15 t +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594360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1295280"/>
            <a:ext cx="891540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2724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50292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00:33:33Z</dcterms:created>
  <dc:creator>Susannah Graham</dc:creator>
  <dc:description/>
  <dc:language>en-US</dc:language>
  <cp:lastModifiedBy>grahams</cp:lastModifiedBy>
  <dcterms:modified xsi:type="dcterms:W3CDTF">2011-10-25T14:01:08Z</dcterms:modified>
  <cp:revision>16</cp:revision>
  <dc:subject/>
  <dc:title>Slide 1</dc:title>
</cp:coreProperties>
</file>